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C5C8A-C2BB-425F-9F21-48123C22A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2B4F6-28A4-41EF-882E-FD20E47E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0D6EE-1126-416D-B8F6-18BFCA5FD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98928-3EF3-47E3-836A-C4243C82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D49D-285A-4F45-98D0-5E48B72C6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1E9E-87A0-4F72-BA5D-4CFCB835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BE61-2A0F-4521-8475-5C0BF3AE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950D-614C-4F25-92BE-B3CACD34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3245-63F3-4673-A458-CA42ECD2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CB9B-C73A-42A7-98E6-81A44DFE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E08B-274B-4F40-851A-3275506E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72460-A2FE-4C9C-8692-3A6B53B3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1806-FB47-401E-9BF4-27BC6F8A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5540-6402-41E9-AAC0-5A712E3E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1FDC-36E4-4AA1-8408-A4F65541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C825-8E0D-43B2-9BF7-966CCB70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C1D6-3B69-4F3E-830E-41BB82BD2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84333-5285-4FC8-A62C-F3F32584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89E22-749F-42EB-8DAC-4EEE49D0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C1A2D-9BD9-4CD8-865A-C1393579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B27FD-E670-427B-AD24-AAE27831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0987D-D4BC-4CEB-8856-44146176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1F361-BAEF-4E3D-B126-D96B63B7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D5C75-E6DD-4D2C-9659-D0A5E441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FBD7-D1FD-4233-9EBD-575A11F1A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DC36-2C22-4658-A2F7-0DDD8B1C78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Arial"/>
                <a:ea typeface="Arial"/>
              </a:rPr>
              <a:t>§</a:t>
            </a:r>
            <a:r>
              <a:rPr b="1" lang="ru-RU" sz="4000" spc="-1" strike="noStrike">
                <a:solidFill>
                  <a:srgbClr val="dfdfe9"/>
                </a:solidFill>
                <a:latin typeface="Garamond"/>
              </a:rPr>
              <a:t>39-41. </a:t>
            </a:r>
            <a:br>
              <a:rPr sz="4000"/>
            </a:br>
            <a:r>
              <a:rPr b="1" lang="ru-RU" sz="4000" spc="-1" strike="noStrike">
                <a:solidFill>
                  <a:srgbClr val="dfdfe9"/>
                </a:solidFill>
                <a:latin typeface="Garamond"/>
              </a:rPr>
              <a:t>Электрическое напряжение. Вольтметр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495288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Больц Сергей Валерьевич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МОУ «СОШ №18» г.о. Балаших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Правильные ответы: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-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-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-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-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-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-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-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fe9"/>
                </a:solidFill>
                <a:latin typeface="Garamond"/>
              </a:rPr>
              <a:t>Электрическое напряжение</a:t>
            </a:r>
            <a:br>
              <a:rPr sz="3200"/>
            </a:br>
            <a:r>
              <a:rPr b="0" lang="ru-RU" sz="2000" spc="-1" strike="noStrike">
                <a:solidFill>
                  <a:srgbClr val="dfdfe9"/>
                </a:solidFill>
                <a:latin typeface="Garamond"/>
              </a:rPr>
              <a:t>Какую работу </a:t>
            </a:r>
            <a:r>
              <a:rPr b="1" lang="ru-RU" sz="2000" spc="-1" strike="noStrike">
                <a:solidFill>
                  <a:srgbClr val="dfdfe9"/>
                </a:solidFill>
                <a:latin typeface="Garamond"/>
              </a:rPr>
              <a:t>А</a:t>
            </a:r>
            <a:r>
              <a:rPr b="0" lang="ru-RU" sz="2000" spc="-1" strike="noStrike">
                <a:solidFill>
                  <a:srgbClr val="dfdfe9"/>
                </a:solidFill>
                <a:latin typeface="Garamond"/>
              </a:rPr>
              <a:t> совершает на данном участке ток при перемещении по этому участку электрического заряда</a:t>
            </a:r>
            <a:r>
              <a:rPr b="1" lang="en-US" sz="2000" spc="-1" strike="noStrike">
                <a:solidFill>
                  <a:srgbClr val="dfdfe9"/>
                </a:solidFill>
                <a:latin typeface="Garamond"/>
              </a:rPr>
              <a:t> q</a:t>
            </a:r>
            <a:r>
              <a:rPr b="0" lang="ru-RU" sz="2000" spc="-1" strike="noStrike">
                <a:solidFill>
                  <a:srgbClr val="dfdfe9"/>
                </a:solidFill>
                <a:latin typeface="Garamond"/>
              </a:rPr>
              <a:t>, равного </a:t>
            </a:r>
            <a:r>
              <a:rPr b="1" lang="ru-RU" sz="2000" spc="-1" strike="noStrike">
                <a:solidFill>
                  <a:srgbClr val="dfdfe9"/>
                </a:solidFill>
                <a:latin typeface="Garamond"/>
              </a:rPr>
              <a:t>1 Кл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dfdfe9"/>
                </a:solidFill>
                <a:latin typeface="Garamond"/>
              </a:rPr>
              <a:t>U</a:t>
            </a:r>
            <a:r>
              <a:rPr b="1" lang="ru-RU" sz="2000" spc="-1" strike="noStrike">
                <a:solidFill>
                  <a:srgbClr val="dfdfe9"/>
                </a:solidFill>
                <a:latin typeface="Garamond"/>
              </a:rPr>
              <a:t> – напряжение </a:t>
            </a:r>
            <a:endParaRPr b="1" lang="en-US" sz="2000" spc="-1" strike="noStrike">
              <a:solidFill>
                <a:srgbClr val="dfdfe9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3"/>
              <p:cNvSpPr txBox="1"/>
              <p:nvPr/>
            </p:nvSpPr>
            <p:spPr>
              <a:xfrm>
                <a:off x="3505320" y="1828800"/>
                <a:ext cx="121896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685800" y="1600200"/>
                <a:ext cx="12952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U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U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AutoShape 7"/>
          <p:cNvSpPr/>
          <p:nvPr/>
        </p:nvSpPr>
        <p:spPr>
          <a:xfrm>
            <a:off x="2209680" y="1981080"/>
            <a:ext cx="1067040" cy="228600"/>
          </a:xfrm>
          <a:prstGeom prst="leftArrow">
            <a:avLst>
              <a:gd name="adj1" fmla="val 50000"/>
              <a:gd name="adj2" fmla="val 116693"/>
            </a:avLst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4952880" y="19810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6172200" y="1828800"/>
            <a:ext cx="266688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 В = 1 Дж/К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 мВ = 0,001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 кВ = 10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AutoShape 10"/>
          <p:cNvSpPr/>
          <p:nvPr/>
        </p:nvSpPr>
        <p:spPr>
          <a:xfrm>
            <a:off x="4038480" y="297180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3124080" y="3429000"/>
            <a:ext cx="1981440" cy="1751400"/>
          </a:xfrm>
          <a:prstGeom prst="rect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ОЛЬТМЕТР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ключают в цепь параллельн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Oval 13"/>
          <p:cNvSpPr/>
          <p:nvPr/>
        </p:nvSpPr>
        <p:spPr>
          <a:xfrm>
            <a:off x="3886200" y="3809880"/>
            <a:ext cx="533520" cy="45720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3962520" y="38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4419720" y="40384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Line 16"/>
          <p:cNvSpPr/>
          <p:nvPr/>
        </p:nvSpPr>
        <p:spPr>
          <a:xfrm flipH="1">
            <a:off x="3580920" y="40384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5486400" y="3429000"/>
            <a:ext cx="3657600" cy="2813400"/>
          </a:xfrm>
          <a:prstGeom prst="rect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. Вольта (ит. 1745-1827 гг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 В – напряжение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при котором электрическое поле совершает работ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= 1 Дж при перемещении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= 1 К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0" y="3809880"/>
            <a:ext cx="2895480" cy="2871720"/>
          </a:xfrm>
          <a:prstGeom prst="rect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304920" y="41148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1600200" y="41148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Line 21"/>
          <p:cNvSpPr/>
          <p:nvPr/>
        </p:nvSpPr>
        <p:spPr>
          <a:xfrm>
            <a:off x="2743200" y="411480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304920" y="41148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304920" y="5257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Line 24"/>
          <p:cNvSpPr/>
          <p:nvPr/>
        </p:nvSpPr>
        <p:spPr>
          <a:xfrm>
            <a:off x="1143000" y="4038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Line 25"/>
          <p:cNvSpPr/>
          <p:nvPr/>
        </p:nvSpPr>
        <p:spPr>
          <a:xfrm>
            <a:off x="1600200" y="3962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Oval 27"/>
          <p:cNvSpPr/>
          <p:nvPr/>
        </p:nvSpPr>
        <p:spPr>
          <a:xfrm>
            <a:off x="1066680" y="5638680"/>
            <a:ext cx="457200" cy="38124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Oval 28"/>
          <p:cNvSpPr/>
          <p:nvPr/>
        </p:nvSpPr>
        <p:spPr>
          <a:xfrm>
            <a:off x="1066680" y="6248520"/>
            <a:ext cx="457200" cy="38088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Line 29"/>
          <p:cNvSpPr/>
          <p:nvPr/>
        </p:nvSpPr>
        <p:spPr>
          <a:xfrm flipV="1">
            <a:off x="1143000" y="571464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Line 30"/>
          <p:cNvSpPr/>
          <p:nvPr/>
        </p:nvSpPr>
        <p:spPr>
          <a:xfrm>
            <a:off x="1143000" y="571500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Line 31"/>
          <p:cNvSpPr/>
          <p:nvPr/>
        </p:nvSpPr>
        <p:spPr>
          <a:xfrm>
            <a:off x="304920" y="586728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Line 32"/>
          <p:cNvSpPr/>
          <p:nvPr/>
        </p:nvSpPr>
        <p:spPr>
          <a:xfrm>
            <a:off x="1523880" y="58672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Line 33"/>
          <p:cNvSpPr/>
          <p:nvPr/>
        </p:nvSpPr>
        <p:spPr>
          <a:xfrm flipH="1">
            <a:off x="152280" y="4800600"/>
            <a:ext cx="1526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Line 34"/>
          <p:cNvSpPr/>
          <p:nvPr/>
        </p:nvSpPr>
        <p:spPr>
          <a:xfrm flipH="1">
            <a:off x="685800" y="6477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Line 36"/>
          <p:cNvSpPr/>
          <p:nvPr/>
        </p:nvSpPr>
        <p:spPr>
          <a:xfrm>
            <a:off x="1523880" y="6477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Line 37"/>
          <p:cNvSpPr/>
          <p:nvPr/>
        </p:nvSpPr>
        <p:spPr>
          <a:xfrm flipV="1">
            <a:off x="1828800" y="5867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Line 38"/>
          <p:cNvSpPr/>
          <p:nvPr/>
        </p:nvSpPr>
        <p:spPr>
          <a:xfrm flipV="1">
            <a:off x="685800" y="5867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Line 39"/>
          <p:cNvSpPr/>
          <p:nvPr/>
        </p:nvSpPr>
        <p:spPr>
          <a:xfrm>
            <a:off x="9144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Line 41"/>
          <p:cNvSpPr/>
          <p:nvPr/>
        </p:nvSpPr>
        <p:spPr>
          <a:xfrm>
            <a:off x="18288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Line 42"/>
          <p:cNvSpPr/>
          <p:nvPr/>
        </p:nvSpPr>
        <p:spPr>
          <a:xfrm>
            <a:off x="1905120" y="3962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Line 44"/>
          <p:cNvSpPr/>
          <p:nvPr/>
        </p:nvSpPr>
        <p:spPr>
          <a:xfrm flipH="1">
            <a:off x="914400" y="5486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Line 45"/>
          <p:cNvSpPr/>
          <p:nvPr/>
        </p:nvSpPr>
        <p:spPr>
          <a:xfrm>
            <a:off x="838080" y="6324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Line 46"/>
          <p:cNvSpPr/>
          <p:nvPr/>
        </p:nvSpPr>
        <p:spPr>
          <a:xfrm>
            <a:off x="1600200" y="6324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Line 47"/>
          <p:cNvSpPr/>
          <p:nvPr/>
        </p:nvSpPr>
        <p:spPr>
          <a:xfrm>
            <a:off x="1676520" y="6248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Примеры типичных напряжений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ектрический фонарь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4,5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пряжение в сети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2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вигатель троллейбуса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6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инескоп телевизора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6 0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пряжение между облаками во время грозы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00 000 0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езопасное электрическое напряжение в сыром помещении – 12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езопасное электрическое напряжение в сухом помещении – 36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ектрические рыб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ектрический скат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50–6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ильский электрический сом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5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горь-электрофорус свыше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5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Ток высокого напряжени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опасен для жизни человек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Разгадайте ребус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1905120" y="1015920"/>
            <a:ext cx="525780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Д/З.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§39-41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  <a:ea typeface="Arial"/>
              </a:rPr>
              <a:t>.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3279600"/>
            <a:ext cx="80773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http://www.all-fizika.com/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Цели и задачи урока: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изучить понятие напряжения на участке цепи, его единицы измерения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научиться пользоваться вольтметром;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научиться применять полученные знания на практике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Тест «Сила тока. Единицы силы тока»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ccec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Сила ток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это физическая величина, равная 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А)…электрическому заряду, прошедшему по электрической цепи за время её рабо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)… электрическому заряду, прошедшему в цепи через поперечное сечение проводни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)… электрическому заряду, прошедшему в цепи через поперечное сечение проводника за 1 с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Г)… электрическому заряду, перемещённому за 1 с от положительного полюса источника тока к отрицательном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dfe9"/>
                </a:solidFill>
                <a:latin typeface="Garamond"/>
              </a:rPr>
              <a:t>2. По какой формуле определяют силу тока?</a:t>
            </a:r>
            <a:br>
              <a:rPr sz="2800"/>
            </a:br>
            <a:endParaRPr b="1" lang="en-US" sz="2800" spc="-1" strike="noStrike">
              <a:solidFill>
                <a:srgbClr val="dfdfe9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8"/>
              <p:cNvSpPr txBox="1"/>
              <p:nvPr/>
            </p:nvSpPr>
            <p:spPr>
              <a:xfrm>
                <a:off x="5867280" y="870120"/>
                <a:ext cx="1785960" cy="20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 txBox="1"/>
          <p:nvPr/>
        </p:nvSpPr>
        <p:spPr>
          <a:xfrm>
            <a:off x="380520" y="3809880"/>
            <a:ext cx="8001000" cy="24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)                                                     Г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А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Б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1"/>
              <p:cNvSpPr txBox="1"/>
              <p:nvPr/>
            </p:nvSpPr>
            <p:spPr>
              <a:xfrm>
                <a:off x="914400" y="1106640"/>
                <a:ext cx="1967040" cy="18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12"/>
              <p:cNvSpPr txBox="1"/>
              <p:nvPr/>
            </p:nvSpPr>
            <p:spPr>
              <a:xfrm>
                <a:off x="1066680" y="3733920"/>
                <a:ext cx="1905120" cy="16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13"/>
              <p:cNvSpPr txBox="1"/>
              <p:nvPr/>
            </p:nvSpPr>
            <p:spPr>
              <a:xfrm>
                <a:off x="5715000" y="3581280"/>
                <a:ext cx="1981080" cy="17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3. Как названа единица силы тока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Джоуль (Дж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Ватт (Вт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Кулон (Кл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Ампер (А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4. Выразите силы тока, равные 0,3 А и 0,03 кА, в миллиамперах?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30 мА и 3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300 мА и 30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300 мА и 3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30 мА и 30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5.Переведите в миллиамперы силы тока, равные 0,05 А и 5 А.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50 мА и 5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500 мА и 5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500 мА и 5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50 мА и 0,005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6. Чему равны в амперах силы тока 800 мкА и 0,2 кА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0,008 А и 20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0,0008 А и 2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0,0008 А и 20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0,008 А и 2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7. Какова сила тока в цепи, если в течение 240 с сквозь её поперечное сечение прошёл заряд 120 Кл?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3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0,5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5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3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rgey</cp:lastModifiedBy>
  <dcterms:modified xsi:type="dcterms:W3CDTF">2012-02-20T14:33:44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